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9F1-19CD-44F0-ADA3-92C214CB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66F-C761-40C4-8E37-ED22440F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4DD-8B58-4489-93D7-B5A8F949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99B-F2D1-4768-8A5A-080D9AC3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0567-C771-404C-A208-02F8FAC3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2400-CC21-4B01-92A9-BABEA97F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A3CF-D3AE-442A-932C-BA388D27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FC10-B3DD-46A3-8198-EE0EFD56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C8FF-B8FE-474A-85A8-A7E7CC05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B8AD-F35C-4554-B080-C940081E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6C58-8B60-4F57-8301-0B6F4AA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151-FF06-477D-ADD5-1C91BEA9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282E-9B31-4411-8163-4BFA82E4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43FD-F266-4428-95BD-A3FCE29A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CECE-6F14-40AC-9D1D-11B8E15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D0CF-6277-4331-8AA3-4F375BE4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AEDE-4AA9-44BE-BC07-42CD4A6C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3F8-4053-42D0-8136-08679452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311-6AB7-40F6-8E65-CAE351DC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B7D-D639-4E1B-96CB-2B8297C1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EE2-02B8-4463-9CF1-08A14BA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EEC-79AB-4C93-BE99-9E9A5C5B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F7A-877C-4261-B597-B71C4BF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BA4-53A7-4A3D-9F13-DD9472C4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0346-A636-4897-8FF5-87A2F1080F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0705-6A24-4A45-B9E7-8548FC8567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ter 2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ics in Jour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bel Law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il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report what happens in a legislative session or judicial session so long as what you say is accurate and f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s in a courtroom is fair to pr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in book – track coach stea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 com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 reviews, movie reviews, etc. are just fine because the creator has thrust himself into the spot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bel Law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ssion of Error – If you are wrong, print a re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officials and public fig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one in an elected role must not only show the damage (which anyone must do) but they must also show malice (reckless disregard for the tru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difficult for public figures to win a libel case because of mal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es become fuzzy – principals are most likely public fig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sure you would want to check with a lawy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inker v. Des Moines (1969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wanted to wear armbands to school – school said 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t decided that students were right to express themselves as they w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E STUDY TI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azelwood (1987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valid educational purpos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er is school sponsored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id that the principal is the chief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, the principal works for the government which means the government controls the paper – clear violation of the first amend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thin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ums – places where individuals can exchange ideas – if a paper is a forum it most likely will not fall under Hazelw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STUDY TIM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ving a Libel Sui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el was publ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s were of and concerning plainti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 was defama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 was 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endant was at fa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Remember – public figures must also prove that actual malice took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nctions of a Journali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– watch over government to see that corruption is not happe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– presenting goods and services to the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ry– what will change us tomorr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tainment – some light element, feature photo, com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place – forum for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nctions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rd-Keeping – mainly for history; cover el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– passing along for people to talk to one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nda Setting – telling what to th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rving water during a dr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valuating the Med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spapers – should cover events happ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uld not be self-seeking advertis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vs. 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 to the minute coverage of yesterday’s ne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s 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az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Time, Newsweek, and U.S. News &amp; World Report really have any true news function in today’s soc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of Journalis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net Cooke – gave back Pulit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yson Blair – made up quotes for NY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hen Glass – made up entire 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d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ved and Tru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license required to be a journa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u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doesn’t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double check those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uch thing as a small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to report stories fai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not like the KKK but you still must be ob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tch the ad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ew more things to examine (page 3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taste – don’t go for trashy st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ght of reply – simultaneous rebut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irness to 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giar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ribution – always use ‘said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ru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bel La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el – lies that are writ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nder – lies that are spo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press not exempt from libel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 crime – this is a civil wr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alty is money judgment gener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defend against lib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reporting will always shine thr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th – if proof is there then you will be f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bel Law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ring up old problems if the person has ch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of the man who went to jail 30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ion is no defense – you can get into trouble for pri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20:59:09Z</dcterms:created>
  <dc:creator>jvanengen</dc:creator>
  <dc:description/>
  <dc:language>en-US</dc:language>
  <cp:lastModifiedBy>jvanengen</cp:lastModifiedBy>
  <dcterms:modified xsi:type="dcterms:W3CDTF">2009-07-19T21:23:29Z</dcterms:modified>
  <cp:revision>3</cp:revision>
  <dc:subject/>
  <dc:title>Chapter 2</dc:title>
</cp:coreProperties>
</file>